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6B4C-6B22-46A2-B355-4947EFE35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865CC-7874-4F28-8B34-13AE29BD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125F8-C63C-4E9E-8333-B95541B11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0E2A7-9AEF-4A39-8DB6-D691E8B68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6DDCA-FFA4-4C11-B292-F594E2DDB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A844D-4C69-4F68-B3B2-CF1D753B1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24B08-C517-4A6D-9105-B06660986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2D09D-EB1D-4BFC-B525-0A0D58645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7F430-5D59-4227-88FD-0125305EC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1B83-C3DA-4B61-B32C-FDC733D70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12BDA-4882-48F8-9CE3-735ED2446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2D630-17B4-43C7-A96D-5840D2181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4B998-D14F-4BB7-BE94-D0AFD5FB7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AD53E-EA6F-43D9-8FD0-335F0FCB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4DAE7-EA98-4845-A823-B6FD5FAD0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4BDA3-93E9-4C8A-A64A-5A0A2C745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0F2B2-A29F-4163-BC68-E0A186D70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CCC1C-0E70-49A7-88DF-10F7A93C7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8A9FA-C4DF-4F77-8A12-570D341BA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01A6-83E1-4AB1-B114-097F9FBD8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E300B-A5E5-4CEB-A8C8-B57048A2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6DDA-39A8-41A7-8C52-3BA754AF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81DF-6C3F-4D33-B46D-2E9B888B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751C-AA66-407A-A6D5-5AC86DE2D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6F7-FC05-4DF3-972C-9FF4B45634F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521F-D48A-4D1E-B34A-8CC33D8E65C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3366"/>
                </a:solidFill>
                <a:latin typeface="Arial"/>
              </a:rPr>
              <a:t>Ako porozumieť správaniu detí a dospievajúcich </a:t>
            </a:r>
            <a:br>
              <a:rPr sz="3200"/>
            </a:br>
            <a:br>
              <a:rPr sz="3200"/>
            </a:br>
            <a:r>
              <a:rPr b="1" lang="sk-SK" sz="3200" spc="-1" strike="noStrike">
                <a:solidFill>
                  <a:srgbClr val="003366"/>
                </a:solidFill>
                <a:latin typeface="Arial"/>
              </a:rPr>
              <a:t>CIELE  NEVHODNÉHO SPRÁVANIA</a:t>
            </a:r>
            <a:br>
              <a:rPr sz="3200"/>
            </a:b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ozitívne nasmerovanie</a:t>
            </a:r>
            <a:r>
              <a:rPr b="0" lang="sk-SK" sz="2400" spc="-1" strike="noStrike">
                <a:solidFill>
                  <a:srgbClr val="003366"/>
                </a:solidFill>
                <a:latin typeface="Arial"/>
              </a:rPr>
              <a:t> – „urob capa záhradníkom“ – takíto žiaci sú často neformálnymi vodcami triedy, preto by sa mali učiteľom čo najskôr identifikovať a získať na stranu dospelého tým, že dostanú zodpovednosť! Napr. pomocníci učiteľa, trénera, rozhodcovia, dávajú pozor na chodbách at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ODPLATA / POMSTA</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Spravidla k tomuto správaniu dochádza po neúspešných dvoch predchádzajúcich – pozornosti, moci, t.j. po dlhom odradení, keď dieťaťu / dospievajúcemu nebol vyvážený absolútny nedostatok zmyslu spolupatričnosti</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ieťa, ktoré sa mstí, je presvedčené, že ho nikto nemá rád a jeho správanie často pramení z pocitu neisto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keď jemu je zle, chce aby sa aj ľudia okolo neho cítili zle. Myslia si, že jediný spôsob ako dosiahnuť  uznanie, je vzbudzovať nepriateľstvo. Hľadajú si miesto tým, že sú kruté a neobľúbené. </a:t>
            </a:r>
            <a:endParaRPr b="0" lang="en-US" sz="2400" spc="-1" strike="noStrike">
              <a:solidFill>
                <a:srgbClr val="003366"/>
              </a:solidFill>
              <a:latin typeface="Arial"/>
            </a:endParaRPr>
          </a:p>
          <a:p>
            <a:pPr marL="325800" indent="-32580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delikventné, výtržnícke správania, ktoré hraničí s patológiou. Zväčša si myslia, že jediný spôsob ako dosiahnuť uznanie, je vzbudzovať nepriateľstvo. </a:t>
            </a:r>
            <a:r>
              <a:rPr b="0" lang="cs-CZ" sz="2400" spc="-1" strike="noStrike">
                <a:solidFill>
                  <a:srgbClr val="003366"/>
                </a:solidFill>
                <a:latin typeface="Arial"/>
              </a:rPr>
              <a:t>To</a:t>
            </a:r>
            <a:r>
              <a:rPr b="0" lang="sk-SK" sz="2400" spc="-1" strike="noStrike">
                <a:solidFill>
                  <a:srgbClr val="003366"/>
                </a:solidFill>
                <a:latin typeface="Arial"/>
              </a:rPr>
              <a:t> samozrejme vedie k trestaniu takýchto prejavov, ktoré vyvoláva ešte viac nepriateľského správania u dieťaťa.</a:t>
            </a:r>
            <a:r>
              <a:rPr b="0" lang="cs-CZ" sz="2400" spc="-1" strike="noStrike">
                <a:solidFill>
                  <a:srgbClr val="003366"/>
                </a:solidFill>
                <a:latin typeface="Arial"/>
              </a:rPr>
              <a:t> Odplata je </a:t>
            </a:r>
            <a:r>
              <a:rPr b="0" lang="sk-SK" sz="2400" spc="-1" strike="noStrike">
                <a:solidFill>
                  <a:srgbClr val="003366"/>
                </a:solidFill>
                <a:latin typeface="Arial"/>
              </a:rPr>
              <a:t>charakterizovaná zraňovaním, násilím</a:t>
            </a:r>
            <a:r>
              <a:rPr b="0" lang="cs-CZ" sz="2400" spc="-1" strike="noStrike">
                <a:solidFill>
                  <a:srgbClr val="003366"/>
                </a:solidFill>
                <a:latin typeface="Arial"/>
              </a:rPr>
              <a:t>,</a:t>
            </a:r>
            <a:r>
              <a:rPr b="0" lang="sk-SK" sz="2400" spc="-1" strike="noStrike">
                <a:solidFill>
                  <a:srgbClr val="003366"/>
                </a:solidFill>
                <a:latin typeface="Arial"/>
              </a:rPr>
              <a:t> brutalitou, krádežami s deštruktívnym správaním.</a:t>
            </a:r>
            <a:endParaRPr b="0" lang="en-US" sz="2400" spc="-1" strike="noStrike">
              <a:solidFill>
                <a:srgbClr val="003366"/>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svedčiť dieťa, že ho máte radi a záleží vám na ňom. Pokúsiť zapojiť dieťa do činnosti napr. triedy pomocou ostatných spolužiakov, ktorých si môžeme prizvať na pomoc. Ukázať im, že svoju pozíciu môžu získať aj užitočnými prostriedkam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ozn. tento typ správania si vyžaduje veľkú spoluprácu odborníkov, triedneho kolektívu, rodičov a najmä dlhý č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Odporúčanie</a:t>
            </a:r>
            <a:r>
              <a:rPr b="0" lang="sk-SK" sz="2400" spc="-1" strike="noStrike">
                <a:solidFill>
                  <a:srgbClr val="003366"/>
                </a:solidFill>
                <a:latin typeface="Arial"/>
              </a:rPr>
              <a:t> – tieto deti/dospievajúci sú veľmi citliví a dokážu sa identifikovať so slabšími, či postihnutými. Je možné ich preto zapojiť do starostlivosti o takýchto žiakov v triede, v škole, môžu byť ich tútormi...povzbudzuje ich práca pri naprávaní nespravodlivost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VYHÝBANIE  SA  ZLYHANIU</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DVÁDZANIE  NESCHOPNOSTI</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extrémnejšie formy odradenia dieťaťa</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ieťa/dospievajúci sa vzdal každej snahy v danej oblasti. Chce len aby ho nechali všetci na pokoji, samého, vtedy jeho nedostatok nemusí byť tak bolestný.</a:t>
            </a:r>
            <a:endParaRPr b="0" lang="en-US" sz="2400" spc="-1" strike="noStrike">
              <a:solidFill>
                <a:srgbClr val="003366"/>
              </a:solidFill>
              <a:latin typeface="Arial"/>
            </a:endParaRPr>
          </a:p>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 </a:t>
            </a:r>
            <a:r>
              <a:rPr b="0" lang="sk-SK" sz="2400" spc="-1" strike="noStrike">
                <a:solidFill>
                  <a:srgbClr val="003366"/>
                </a:solidFill>
                <a:latin typeface="Arial"/>
              </a:rPr>
              <a:t>–</a:t>
            </a:r>
            <a:r>
              <a:rPr b="1" lang="sk-SK" sz="2400" spc="-1" strike="noStrike">
                <a:solidFill>
                  <a:srgbClr val="003366"/>
                </a:solidFill>
                <a:latin typeface="Arial"/>
              </a:rPr>
              <a:t> </a:t>
            </a:r>
            <a:r>
              <a:rPr b="0" lang="sk-SK" sz="2400" spc="-1" strike="noStrike">
                <a:solidFill>
                  <a:srgbClr val="003366"/>
                </a:solidFill>
                <a:latin typeface="Arial"/>
              </a:rPr>
              <a:t>jednotlivec sa ľahko vzdáva, vyhýba sa aktivitám vo všeobecnosti; vedomie, že zlyhá vedie napr. u dospievajúceho k záškoláctvu. Odpoveď na riešenie problémov v správaní je byť ticho a nerobiť nič navyše. </a:t>
            </a:r>
            <a:endParaRPr b="0" lang="en-US" sz="2400" spc="-1" strike="noStrike">
              <a:solidFill>
                <a:srgbClr val="003366"/>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ospelý sa cíti bezmocný, alebo sa vzdáva.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Reagovať povzbudzujúco na ich malé úspechy a minimalizovať kritizovanie chýb.</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Títo jedinci musia nájsť odvahu byť nedokonalými a robiť chyb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Odporúčanie</a:t>
            </a:r>
            <a:r>
              <a:rPr b="0" lang="sk-SK" sz="2400" spc="-1" strike="noStrike">
                <a:solidFill>
                  <a:srgbClr val="003366"/>
                </a:solidFill>
                <a:latin typeface="Arial"/>
              </a:rPr>
              <a:t> – pracovať s nimi individuálne a umožniť im, aby ukázali iba to čo vedia; zapájať do aktivít, ktoré nie sú postavené na súťaživom základ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66"/>
                </a:solidFill>
                <a:latin typeface="Arial"/>
              </a:rPr>
              <a:t>Techniky a postupy pri práci so žiakmi </a:t>
            </a:r>
            <a:br>
              <a:rPr sz="2800"/>
            </a:br>
            <a:r>
              <a:rPr b="1" lang="sk-SK" sz="2800" spc="-1" strike="noStrike">
                <a:solidFill>
                  <a:srgbClr val="006666"/>
                </a:solidFill>
                <a:latin typeface="Arial"/>
              </a:rPr>
              <a:t>v školskom prostredí</a:t>
            </a:r>
            <a:endParaRPr b="1" lang="en-US" sz="28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Delenie zodpovednosti</a:t>
            </a:r>
            <a:r>
              <a:rPr b="0" lang="sk-SK" sz="2000" spc="-1" strike="noStrike">
                <a:solidFill>
                  <a:srgbClr val="003366"/>
                </a:solidFill>
                <a:latin typeface="Arial"/>
              </a:rPr>
              <a:t> – učitelia často preberajú zodpovednosť za žiakov, ako keby ich úspech závisel od učiteľ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Úcta</a:t>
            </a:r>
            <a:r>
              <a:rPr b="0" lang="sk-SK" sz="2000" spc="-1" strike="noStrike">
                <a:solidFill>
                  <a:srgbClr val="003366"/>
                </a:solidFill>
                <a:latin typeface="Arial"/>
              </a:rPr>
              <a:t> učiteľa k sebe samému – osobnosť učiteľa a jeho schopnosť využívať postupy, techniky. </a:t>
            </a:r>
            <a:r>
              <a:rPr b="1" lang="sk-SK" sz="2000" spc="-1" strike="noStrike">
                <a:solidFill>
                  <a:srgbClr val="003366"/>
                </a:solidFill>
                <a:latin typeface="Arial"/>
              </a:rPr>
              <a:t>Porozumenie </a:t>
            </a:r>
            <a:r>
              <a:rPr b="0" lang="sk-SK" sz="2000" spc="-1" strike="noStrike">
                <a:solidFill>
                  <a:srgbClr val="003366"/>
                </a:solidFill>
                <a:latin typeface="Arial"/>
              </a:rPr>
              <a:t>samému sebe – svojim prednostiam i nedostatkom.</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Trpezlivosť</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3366"/>
                </a:solidFill>
                <a:latin typeface="Arial"/>
              </a:rPr>
              <a:t>Atmosféra rešpektu a vedenie žiakov k preberaniu </a:t>
            </a:r>
            <a:r>
              <a:rPr b="1" lang="sk-SK" sz="2000" spc="-1" strike="noStrike">
                <a:solidFill>
                  <a:srgbClr val="003366"/>
                </a:solidFill>
                <a:latin typeface="Arial"/>
              </a:rPr>
              <a:t>zodpovednosti.</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3366"/>
                </a:solidFill>
                <a:latin typeface="Arial"/>
              </a:rPr>
              <a:t>Triedne schôdzk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TRIEDNE  SCHODZKY</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V našom školskom systéme známe triednické hodi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Týždenne venovať schôdzke 20-30 minú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Diskusia učiteľa so žiakm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Trieda si môže určiť dopredu položky, ktoré budú zaradené do programu diskusi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ápisy zo stretnutí, v ktorých bude zachytené na čom sa trieda dohodl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6666"/>
                </a:solidFill>
                <a:latin typeface="Arial"/>
              </a:rPr>
              <a:t>Pravidlá fungovania triedy v súlade so školským poriadkom</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1 </a:t>
            </a:r>
            <a:r>
              <a:rPr b="1" lang="sk-SK" sz="2800" spc="-1" strike="noStrike">
                <a:solidFill>
                  <a:srgbClr val="003366"/>
                </a:solidFill>
                <a:latin typeface="Arial"/>
              </a:rPr>
              <a:t>Definícia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vašej ideálnej tried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študentov ideálnej triedy technika Dobrá trie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redstava rodičov ideálnej trie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Každé správanie má svoj </a:t>
            </a:r>
            <a:r>
              <a:rPr b="1" lang="sk-SK" sz="2400" spc="-1" strike="noStrike">
                <a:solidFill>
                  <a:srgbClr val="003366"/>
                </a:solidFill>
                <a:latin typeface="Arial"/>
              </a:rPr>
              <a:t>spoločenský účel</a:t>
            </a:r>
            <a:r>
              <a:rPr b="0" lang="sk-SK" sz="2400" spc="-1" strike="noStrike">
                <a:solidFill>
                  <a:srgbClr val="003366"/>
                </a:solidFill>
                <a:latin typeface="Arial"/>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Človek je spoločenský tvor a hlavným </a:t>
            </a:r>
            <a:r>
              <a:rPr b="1" lang="sk-SK" sz="2400" spc="-1" strike="noStrike">
                <a:solidFill>
                  <a:srgbClr val="003366"/>
                </a:solidFill>
                <a:latin typeface="Arial"/>
              </a:rPr>
              <a:t>životným cieľom je niekam patriť</a:t>
            </a:r>
            <a:r>
              <a:rPr b="0" lang="sk-SK" sz="2400" spc="-1" strike="noStrike">
                <a:solidFill>
                  <a:srgbClr val="003366"/>
                </a:solidFill>
                <a:latin typeface="Arial"/>
              </a:rPr>
              <a:t>. Usilujeme sa o to, aby sme si udržali svoju významnú pozíciu a v tomto snažení si vyberáme presvedčenia, pocity a typy správania, o ktorých sme presvedčení, že nám túto pozíciu získaj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2  </a:t>
            </a:r>
            <a:r>
              <a:rPr b="1" lang="sk-SK" sz="2800" spc="-1" strike="noStrike">
                <a:solidFill>
                  <a:srgbClr val="003366"/>
                </a:solidFill>
                <a:latin typeface="Arial"/>
              </a:rPr>
              <a:t>Tvorba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Identifikujte vhodné a nevhodné správani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Objasnite, čo je vhodné a nevhodné správani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apojte rodičov do tvorby pravidi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3 </a:t>
            </a:r>
            <a:r>
              <a:rPr b="1" lang="sk-SK" sz="2800" spc="-1" strike="noStrike">
                <a:solidFill>
                  <a:srgbClr val="003366"/>
                </a:solidFill>
                <a:latin typeface="Arial"/>
              </a:rPr>
              <a:t>Uplatňovanie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ontrolujte, či študenti pochopili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Riešte problémy pri uplatňovaní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verejnite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užite intervenčné stratégie riešenia problémov</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Krok č.4 </a:t>
            </a:r>
            <a:r>
              <a:rPr b="1" lang="sk-SK" sz="2800" spc="-1" strike="noStrike">
                <a:solidFill>
                  <a:srgbClr val="003366"/>
                </a:solidFill>
                <a:latin typeface="Arial"/>
              </a:rPr>
              <a:t>Posilňovanie pravidi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ublikujte pravidl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Buďte vzorom pri náprave správan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vzbudzujte študentov v sebahodnot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Užitočné aktivity</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Získať problémových študentov pre užitočné ak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Formulár pre učiteľ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Formulár pre študen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Ďakujem za pozornosť.</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sychiater </a:t>
            </a:r>
            <a:r>
              <a:rPr b="1" lang="sk-SK" sz="2400" spc="-1" strike="noStrike">
                <a:solidFill>
                  <a:srgbClr val="003366"/>
                </a:solidFill>
                <a:latin typeface="Arial"/>
              </a:rPr>
              <a:t>Rudolf Dreikurs</a:t>
            </a:r>
            <a:r>
              <a:rPr b="0" lang="sk-SK" sz="2400" spc="-1" strike="noStrike">
                <a:solidFill>
                  <a:srgbClr val="003366"/>
                </a:solidFill>
                <a:latin typeface="Arial"/>
              </a:rPr>
              <a:t> rozdeľuje nevhodné správanie detí a dospievajúcich do štyroch skupín podľa cieľov alebo účelov nevhodného správania jedinca, ktoré prebiehajú prevažne na podvedomej úrovni.</a:t>
            </a:r>
            <a:endParaRPr b="0" lang="en-US" sz="24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3366"/>
                </a:solidFill>
                <a:latin typeface="Arial"/>
              </a:rPr>
              <a:t>Pozornosť, Moc, Odplata a Vyhýbanie sa zlyhani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POZORNOSŤ</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častejší, ale aj najľahšie zvládnuteľný cieľ nevhodného správani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Takéto dieťa/dospievajúci neustále zamestnáva rodiča/učiteľa samým sebou.</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šaškovanie, hlučnosť, nervozita, bizarné obliekanie, predvádzanie sa pred spolužiakmi, vykrikovanie, hyperaktivit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aby mu bola venovaná pozornosť zo strany dospelého, lebo sa vtedy cíti dobre a má dôkaz o tom, že tam patr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Rodič/učiteľ sa cíti otrávený, vyrušený, alebo občas aj pobavený</a:t>
            </a:r>
            <a:endParaRPr b="0" lang="en-US" sz="2400" spc="-1" strike="noStrike">
              <a:solidFill>
                <a:srgbClr val="0033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a:t>
            </a:r>
            <a:r>
              <a:rPr b="0" lang="sk-SK" sz="2400" spc="-1" strike="noStrike">
                <a:solidFill>
                  <a:srgbClr val="003366"/>
                </a:solidFill>
                <a:latin typeface="Arial"/>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Ignorovanie, najmä u mladších detí, dospievajúci sa môže predvádzať pred rovesníkmi.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Venovať pozornosť dieťaťu, keď robí to, čo má a minimalizovať pozornosť na rušivé prejavy správania.</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Urobiť niečo neočakávané – zmeniť hlas, zapnúť svetlá, použiť humor bez sarkaz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Objasniť, aké správanie si želáme, očakávame</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Vyrušiť dieťa – položiť priamo otázku, zmeniť činnosť</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U dospievajúcich použiť pomoc celej triedy.</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Neodporúča</a:t>
            </a:r>
            <a:r>
              <a:rPr b="0" lang="sk-SK" sz="2400" spc="-1" strike="noStrike">
                <a:solidFill>
                  <a:srgbClr val="003366"/>
                </a:solidFill>
                <a:latin typeface="Arial"/>
              </a:rPr>
              <a:t> sa individuálny rozhovor, lebo to je to, o čo žiakovi ide.</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ozitívne nasmerovanie</a:t>
            </a:r>
            <a:r>
              <a:rPr b="0" lang="sk-SK" sz="2400" spc="-1" strike="noStrike">
                <a:solidFill>
                  <a:srgbClr val="003366"/>
                </a:solidFill>
                <a:latin typeface="Arial"/>
              </a:rPr>
              <a:t> – získať tieto deti pre spoluprácu. Keď získajú uznanie, urobia niečo spoločensky prospešné. Povzbudiť ich úlohami, v ktorých ich „bude vidieť“.</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6666"/>
                </a:solidFill>
                <a:latin typeface="Arial"/>
              </a:rPr>
              <a:t>MOC </a:t>
            </a:r>
            <a:br>
              <a:rPr sz="3600"/>
            </a:br>
            <a:br>
              <a:rPr sz="3600"/>
            </a:br>
            <a:r>
              <a:rPr b="0" lang="sk-SK" sz="2400" spc="-1" strike="noStrike">
                <a:solidFill>
                  <a:srgbClr val="006666"/>
                </a:solidFill>
                <a:latin typeface="Arial"/>
              </a:rPr>
              <a:t>„</a:t>
            </a:r>
            <a:r>
              <a:rPr b="1" lang="sk-SK" sz="2400" spc="-1" strike="noStrike">
                <a:solidFill>
                  <a:srgbClr val="006666"/>
                </a:solidFill>
                <a:latin typeface="Arial"/>
              </a:rPr>
              <a:t>Nikto ma nemôže prinútiť, aby som niečo urobil“</a:t>
            </a:r>
            <a:endParaRPr b="1" lang="en-US" sz="24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Objavuje sa, keď sa rodič/učiteľ snaží, aby sa žiak prestal nevhodne správať, kde zámerom bola pôvodne pozornosť a vyústi to do zápasu o moc.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Najčastejší cieľ nevhodného správania u dospievajúcich</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Cieľ dieťaťa</a:t>
            </a:r>
            <a:r>
              <a:rPr b="0" lang="sk-SK" sz="2400" spc="-1" strike="noStrike">
                <a:solidFill>
                  <a:srgbClr val="003366"/>
                </a:solidFill>
                <a:latin typeface="Arial"/>
              </a:rPr>
              <a:t> - má pocit, že s ním počítajú a cíti sa dobre len, keď je uznávaný, výnimočný a je viac ako dospelý.</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Prejavy</a:t>
            </a:r>
            <a:r>
              <a:rPr b="0" lang="sk-SK" sz="2400" spc="-1" strike="noStrike">
                <a:solidFill>
                  <a:srgbClr val="003366"/>
                </a:solidFill>
                <a:latin typeface="Arial"/>
              </a:rPr>
              <a:t> – agresivita, nepriateľstvo, vzdorovitosť, odpor, bitky, apatia, neposlúchanie, výbuchy hnevu, panovačnosť alebo klamanie.</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Dospelý sa cíti frustrovaný, nazlostený, alebo porazený.</a:t>
            </a: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66"/>
                </a:solidFill>
                <a:latin typeface="Arial"/>
              </a:rPr>
              <a:t>Riešenie </a:t>
            </a:r>
            <a:r>
              <a:rPr b="0" lang="sk-SK" sz="2400" spc="-1" strike="noStrike">
                <a:solidFill>
                  <a:srgbClr val="003366"/>
                </a:solidFill>
                <a:latin typeface="Arial"/>
              </a:rPr>
              <a:t>:</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3366"/>
                </a:solidFill>
                <a:latin typeface="Arial"/>
              </a:rPr>
              <a:t>Predovšetkým sa nedať zatiahnuť do boja o moc! Ak sa rozhodneme bojovať, nevyhnutne prehráme! Bez ohľadu na akékoľvek dočasné víťazstvo.</a:t>
            </a:r>
            <a:endParaRPr b="0" lang="en-US" sz="2400" spc="-1" strike="noStrike">
              <a:solidFill>
                <a:srgbClr val="0033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20:53:04Z</dcterms:created>
  <dc:creator>Home</dc:creator>
  <dc:description/>
  <dc:language>en-US</dc:language>
  <cp:lastModifiedBy>Home</cp:lastModifiedBy>
  <dcterms:modified xsi:type="dcterms:W3CDTF">2013-11-25T21:27:38Z</dcterms:modified>
  <cp:revision>22</cp:revision>
  <dc:subject/>
  <dc:title>CIELE  NEVHODNÉHO SPRÁVANIA </dc:title>
</cp:coreProperties>
</file>